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C3C-8787-4198-A846-7F077C67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37B-9C60-4409-9C30-A087ACC9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7BC-A761-41D8-94BA-F7851B5D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51E-4F40-47E2-B083-4AD6D16B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7DA-AC0F-470E-A7DD-6A3E4F5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29D-8A7C-49FF-A62E-0B22D71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A4B-B38D-4BCD-A80F-644D9AC6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614-AFE8-460E-8E2F-815547B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0CA-B1E9-4D90-8DD0-F4D317C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33C-3962-49A3-897C-CBE027F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24A-65CF-4492-B9E4-72BA414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38C-FD69-4F15-8BAA-DD91605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BA1-DD0E-4EE1-B2C8-E2D4D9D9A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-6g2nfEEL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404640"/>
            <a:ext cx="73436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Приучай 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Себ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к добрым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ff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ff0000"/>
                  </a:outerShdw>
                </a:effectLst>
                <a:latin typeface="Arial"/>
              </a:rPr>
              <a:t>поступкам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ff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11"/>
          <p:cNvPicPr/>
          <p:nvPr/>
        </p:nvPicPr>
        <p:blipFill>
          <a:blip r:embed="rId1"/>
          <a:stretch/>
        </p:blipFill>
        <p:spPr>
          <a:xfrm flipH="1">
            <a:off x="539280" y="4724280"/>
            <a:ext cx="13971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что не обходится нам так дешево и не ценится так дорого, как вежливость и доброта»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.Серванте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backgrounds_100048"/>
          <p:cNvPicPr/>
          <p:nvPr/>
        </p:nvPicPr>
        <p:blipFill>
          <a:blip r:embed="rId1"/>
          <a:stretch/>
        </p:blipFill>
        <p:spPr>
          <a:xfrm>
            <a:off x="5867280" y="3500280"/>
            <a:ext cx="31831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та-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ты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целая наша Земл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праздник в сем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песня ручья по весн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радости море и смех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– это также прекрасно, как лето!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мама с папою рядом – Добро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люди идут, улыбаясь в метр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в общем, добро – это что-то тако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бъяснить не в силах пор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12"/>
          <p:cNvPicPr/>
          <p:nvPr/>
        </p:nvPicPr>
        <p:blipFill>
          <a:blip r:embed="rId1"/>
          <a:stretch/>
        </p:blipFill>
        <p:spPr>
          <a:xfrm>
            <a:off x="6300720" y="476280"/>
            <a:ext cx="24195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11484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т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ость, сочувств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евное расположение к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делать доброе, хорошее, полезное друг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И.Оже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52"/>
          <p:cNvPicPr/>
          <p:nvPr/>
        </p:nvPicPr>
        <p:blipFill>
          <a:blip r:embed="rId1"/>
          <a:stretch/>
        </p:blipFill>
        <p:spPr>
          <a:xfrm rot="21470400">
            <a:off x="5802120" y="2604600"/>
            <a:ext cx="29797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547640" y="333360"/>
            <a:ext cx="52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ловицы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1562040"/>
            <a:ext cx="36669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2421000"/>
            <a:ext cx="369396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одежда красит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3213000"/>
            <a:ext cx="3635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хвались сереб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451480" y="2421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хвались доб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5451480" y="3213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шке прия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51480" y="161604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го добрые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5"/>
          <p:cNvSpPr/>
          <p:nvPr/>
        </p:nvSpPr>
        <p:spPr>
          <a:xfrm>
            <a:off x="3635280" y="1903320"/>
            <a:ext cx="1816200" cy="159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6"/>
          <p:cNvSpPr/>
          <p:nvPr/>
        </p:nvSpPr>
        <p:spPr>
          <a:xfrm flipV="1">
            <a:off x="3693960" y="2038320"/>
            <a:ext cx="172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3635280" y="2758680"/>
            <a:ext cx="1785960" cy="74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052"/>
          <p:cNvPicPr/>
          <p:nvPr/>
        </p:nvPicPr>
        <p:blipFill>
          <a:blip r:embed="rId1"/>
          <a:stretch/>
        </p:blipFill>
        <p:spPr>
          <a:xfrm rot="21470400">
            <a:off x="3403080" y="3784680"/>
            <a:ext cx="21542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шеб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но кем-то просто и мудро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стрече здороваться ..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зеленеет даже старый пен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услышит: ..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ает ледяная глыб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лова доброго ...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бранят за шал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говорим: ..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о Франции, и в 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ворят, прощаясь: ..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вам с большой любовь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11"/>
          <p:cNvPicPr/>
          <p:nvPr/>
        </p:nvPicPr>
        <p:blipFill>
          <a:blip r:embed="rId1"/>
          <a:stretch/>
        </p:blipFill>
        <p:spPr>
          <a:xfrm flipH="1">
            <a:off x="6084360" y="3429000"/>
            <a:ext cx="2428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меранг до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e-6g2nfEELE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Шура — Твори Добро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 добр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50920" y="3479760"/>
            <a:ext cx="3378240" cy="337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3"/>
          <a:stretch/>
        </p:blipFill>
        <p:spPr>
          <a:xfrm>
            <a:off x="4859280" y="189000"/>
            <a:ext cx="411156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1281341266_620748_59_862_artfile_ru.jpg"/>
          <p:cNvPicPr/>
          <p:nvPr/>
        </p:nvPicPr>
        <p:blipFill>
          <a:blip r:embed="rId4"/>
          <a:stretch/>
        </p:blipFill>
        <p:spPr>
          <a:xfrm>
            <a:off x="4780080" y="3754440"/>
            <a:ext cx="4357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4850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5:09:17Z</dcterms:created>
  <dc:creator>Никитина</dc:creator>
  <dc:description/>
  <dc:language>en-US</dc:language>
  <cp:lastModifiedBy>User</cp:lastModifiedBy>
  <dcterms:modified xsi:type="dcterms:W3CDTF">2022-10-17T07:16:35Z</dcterms:modified>
  <cp:revision>20</cp:revision>
  <dc:subject/>
  <dc:title>Слайд 1</dc:title>
</cp:coreProperties>
</file>